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454-DFDA-42FD-B149-1644AC54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2E5-E8EA-418A-AAEA-AF1ADBE1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8DD-CAD3-4460-A466-5BCC8FD2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EFF-2AE2-4256-9D76-B12B2B3F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6F93-497F-44A0-A7F8-100E3EC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3AFB-683C-44DF-B40D-A063D980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3C60-2DAF-41FA-AB65-0C91E223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3807-AD61-400A-9756-C282A16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E484-3518-4135-BC67-AC7EF478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FED4-4805-4718-AB95-68920192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156E-9569-4E3D-814D-E357089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03B-31E0-49CD-8E78-C8A2F969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FF3B-EDF2-4B0D-A563-9AE3B5E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1BCA-A706-4C30-BE7C-3CF3F192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05C2-FF3F-4C05-B405-559CA814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2808-D607-4023-B8BA-AD8FEAC7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44DA-A854-45F3-8072-BC0931B8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FB5-534D-47FD-B245-66A9DE4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2AA-62ED-4F33-ADE1-F8632200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03F-B2FF-44EA-99FB-E111CE71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CBD-A784-4235-B572-A4E1A29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E2E-9738-4319-B928-A522B6E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A8D-3EFB-4B8A-8360-CE78110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6C7-D9F2-4E77-877E-DD8381A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1C24-4AEA-4E2D-A93A-F3FAFA616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E06-34F4-4923-B79E-3582109A1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un faster!!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teven Hinsh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 W/ regular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16.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. 17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19.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. 18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19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. 18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18.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. 20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20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.19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 W/ diet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15.8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. 16.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17.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.22.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20.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.18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16.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.18.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18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.20.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ome people pop made them slower but more often it didn’t change ther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ssible cause of err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didn’t wait till the pop had gotten in there system then it wouldn’t relly effect there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ime sp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-30-11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1-12, 45 min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2-11, 25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2-12, 45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6-11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8-12, 8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14-11, 4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10-12, 4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-12, 5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13-12, 80 m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6-12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21-12, 40 m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17-12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29-12, 3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6-12, 8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knowledgements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: Tristen, Caleb, Nick, Zane, Shane, Emma, Cristina, Keena, Chrys for running in my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blem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kind of pop effects your physical ability more? Regular or di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felt that felling after doing physical active wile you drank pop before that you feel like throwing up? And dose diet pop affect your physical ability mor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 informa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he Health Effects of Drinking Soda - Quotes from the Expert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tural Health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7 Jan. 2012. &lt;http://www.naturalnews.com/004416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he Dangers of Diet Soda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t Fit Slowly — Physical Fitness That Makes S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7 Jan. 2012. &lt;http://getfitslowly.com/2008/02/12/the-dangers-of-diet-soda/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ists', 'Islamic. "Thomas P. Connelly, D.D.S.: Diet Soda and Your Teeth: A Healthy Mix?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eaking News and Opinion on The Huffington P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7 Jan. 2012. &lt;http://www.huffingtonpost.com/thomas-p-connelly-dds/diet-soda-teeth_b_922968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ypothes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that regular pops will  affect the you physical ability more, in the better a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eria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-106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testeys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6200" indent="-106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diet pops, diet Pep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6200" indent="-106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regular pops, Pep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cedu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one 1liter regular Pepsi, one 1liter diet 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10 te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each tester run a down back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each one drink 50 ml of regular po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steps 3-6 with diet 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riab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: dose pop effect your physical abi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ant: running down back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olled: 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 Without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17.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. 17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19.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. 2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19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.16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18.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.19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19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.18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4:39:00Z</dcterms:created>
  <dc:creator>USD376</dc:creator>
  <dc:description/>
  <dc:language>en-US</dc:language>
  <cp:lastModifiedBy>USD376</cp:lastModifiedBy>
  <dcterms:modified xsi:type="dcterms:W3CDTF">2012-03-19T14:45:16Z</dcterms:modified>
  <cp:revision>4</cp:revision>
  <dc:subject/>
  <dc:title>Run faster!!!</dc:title>
</cp:coreProperties>
</file>